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8F6-9D99-442F-ABFF-918847F6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E6D-F3FD-4E0A-9EB8-061D8C4D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FBD-DF06-4D0A-AFEB-9DB96FA8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A1B-210A-4643-BDA3-4953B17B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CD4-F9A5-41CB-8B8A-1D18CFEB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000-78CD-4D60-A145-935C0443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A00-0DCA-4DE2-BE08-E340C72E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B41-3F24-4839-9F76-93FD31B2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56D-517A-4B1B-BADE-E41A1FE1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306-23EA-4C00-947B-F3B22A93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789-7659-446C-A0A1-495F1D32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489-F7A4-4B88-9A18-EB355202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2631-C16C-45A1-9191-9A9466268A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00009V2MD.01._SCLZZZZZZZ_" descr=""/>
          <p:cNvPicPr/>
          <p:nvPr/>
        </p:nvPicPr>
        <p:blipFill>
          <a:blip r:embed="rId1"/>
          <a:stretch/>
        </p:blipFill>
        <p:spPr>
          <a:xfrm>
            <a:off x="3121200" y="2409840"/>
            <a:ext cx="2766960" cy="3122640"/>
          </a:xfrm>
          <a:prstGeom prst="rect">
            <a:avLst/>
          </a:prstGeom>
          <a:ln w="0">
            <a:noFill/>
          </a:ln>
        </p:spPr>
      </p:pic>
      <p:pic>
        <p:nvPicPr>
          <p:cNvPr id="42" name="dr.evil_one_miliion_dollars" descr=""/>
          <p:cNvPicPr/>
          <p:nvPr/>
        </p:nvPicPr>
        <p:blipFill>
          <a:blip r:embed="rId2"/>
          <a:stretch/>
        </p:blipFill>
        <p:spPr>
          <a:xfrm>
            <a:off x="846000" y="1695600"/>
            <a:ext cx="2154240" cy="3430440"/>
          </a:xfrm>
          <a:prstGeom prst="rect">
            <a:avLst/>
          </a:prstGeom>
          <a:ln w="0">
            <a:noFill/>
          </a:ln>
        </p:spPr>
      </p:pic>
      <p:pic>
        <p:nvPicPr>
          <p:cNvPr id="43" name="kelly%20clarkson" descr=""/>
          <p:cNvPicPr/>
          <p:nvPr/>
        </p:nvPicPr>
        <p:blipFill>
          <a:blip r:embed="rId3"/>
          <a:stretch/>
        </p:blipFill>
        <p:spPr>
          <a:xfrm>
            <a:off x="6040440" y="1706400"/>
            <a:ext cx="2690640" cy="3400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3240" y="536400"/>
            <a:ext cx="39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Verdana"/>
              </a:rPr>
              <a:t>Qui est-c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89240" y="1731960"/>
            <a:ext cx="26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’est le c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76800" y="5184720"/>
            <a:ext cx="267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e n’est pas Britney Sp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680" y="5213520"/>
            <a:ext cx="267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’est le Docteur 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Le Chat et Docteur Evi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vec la participation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ney Spears, Kelly Clarkson et Austin Power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08520" y="514440"/>
            <a:ext cx="114300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73320" y="1295280"/>
            <a:ext cx="114300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i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635200"/>
            <a:ext cx="196992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Objecti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4483080"/>
            <a:ext cx="1905120" cy="520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ots Cl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02280" y="53352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vendredi 19 m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9360" y="1311120"/>
            <a:ext cx="46292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Le chat et Docteur 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[The Cat and Doctor Evil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7360" y="3228840"/>
            <a:ext cx="848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ujourd’hui on appren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à adapter un texte modèle, pour dire ce que je veux d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2320" y="3238560"/>
            <a:ext cx="75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oday we are learning to change a model text to say what I want to 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6440" y="5091120"/>
            <a:ext cx="808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être = to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adjectifs (descrip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7960" y="322560"/>
            <a:ext cx="8763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Bonjour. Je suis Docteur Evi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onjour. Je suis le chat. Je suis coo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stin Powers est là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n. Il n’est pas là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l est bê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u es stupide? Austin Powers est c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h le Ch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u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u es intellig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ui, je suis intellig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mmm .... Eh le Ch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u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u es Austin Pow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n. Je ne suis pas Austin Powers. Je suis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 c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stin Powers n’est pas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n. Tu es bêt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2280" y="96840"/>
            <a:ext cx="838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n. Il est bête. Il est là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n! Non! Non! Il n’est pas là. Britney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ears est là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itney? Elle est là. C’est super. Britney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ears  est super intellig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e suis un supporter de Bristol 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 moment! Un supporter d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istol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ity? Tu es intelligent.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u es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ustin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.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e – suis – un - chat.O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u es Britney Spea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n. Britney est là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ui.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’est Britney.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’est fantastique.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le est c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e préfère Kelly Clark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 n’est pas un problè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 chat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K. J’ai fini.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 revoir, Docteur Ev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teur Evi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 revoir. Oh! C’est Britney Sp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06:04Z</dcterms:created>
  <dc:creator>cpugh</dc:creator>
  <dc:description/>
  <dc:language>en-US</dc:language>
  <cp:lastModifiedBy>cpugh</cp:lastModifiedBy>
  <dcterms:modified xsi:type="dcterms:W3CDTF">2006-10-09T11:31:44Z</dcterms:modified>
  <cp:revision>2</cp:revision>
  <dc:subject/>
  <dc:title>Slide 1</dc:title>
</cp:coreProperties>
</file>